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DFC8-13A8-4E36-B1C3-CB4C6769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0F47-0EB1-4517-BE4B-D138865D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B0B-7943-4BE7-9F5E-046F8679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5749-CBCB-4E78-A367-E706BDFC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6ECC-3AFC-4273-A929-6B10DBAB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E799-5803-4737-8701-76C220D7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B164-FCDC-4D63-B885-45A43CCE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F055-8384-405D-8D6F-9269F86A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89E8-A832-498D-A5D8-DF2801AB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BFCE-7194-4F1B-A6E2-B6DED9CA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66D7-88CE-4D5F-948A-C06D4F66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D24-2C56-43B0-9103-05F69006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82DA-F954-45D4-B024-309BBFEB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F7D7-3939-48A7-B98B-F934C69D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DBE9-7322-4E20-8E34-0012265B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C45E-68C9-420E-910F-E12A24E6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6B1D-DF23-4F29-8356-D52F371A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FD6-A1E3-4248-AA64-8F63023A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8E1E-9A8A-4473-80F4-58E74FE3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2066-9978-432D-A60D-9A18E5F0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A17-A325-49E0-B9B2-C41FD46B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8D1-9244-43FC-B6B2-EEE8F711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F79F-B9C0-4533-ADEA-D6301925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3FB-D008-40B1-A331-89BF446D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5FA1-EFBB-48DB-B6B0-914E309ECB5F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537E-3429-4A40-BF18-6CC625F65630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1.bp.blogspot.com/-uEWk9dAGD8M/VXn43bXAcOI/AAAAAAAAERc/Xe5fW7F7vuY/s1600/kukla-desjatiruchka-26.jpg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2.bp.blogspot.com/-Lzz-aCkOQKg/VXn4zzeix8I/AAAAAAAAEQQ/AhWWysRu9EI/s1600/kukla-desjatiruchka-15.jpg" TargetMode="External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1.bp.blogspot.com/-_bK5ae7kQzM/VXn43Bmx8YI/AAAAAAAAERY/INRkhNiF980/s1600/kukla-desjatiruchka-25.jpg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1.bp.blogspot.com/-5Z_rQcQjgps/VXn43zn51eI/AAAAAAAAERo/aXEzsNBUZ2s/s1600/kukla-desjatiruchka-3.jpg" TargetMode="Externa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2.bp.blogspot.com/-vJL3VQ0sanc/VXn44Hm_F9I/AAAAAAAAESU/PyIXSo6BjzM/s1600/kukla-desjatiruchka-4.jpg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2.bp.blogspot.com/-4lvjUpNYg1M/VXn44qkZ9AI/AAAAAAAAESE/6ie8knNTncc/s1600/kukla-desjatiruchka-5.jpg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1.bp.blogspot.com/-nMX9U5FgZ-g/VXn44_CfjhI/AAAAAAAAERw/0eD2IJvM5kQ/s1600/kukla-desjatiruchka-6.jpg" TargetMode="External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2.bp.blogspot.com/-Soua2xtbme8/VXn45emX81I/AAAAAAAAER4/6FYGlhRCHw4/s1600/kukla-desjatiruchka-7.jpg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1.bp.blogspot.com/-mpUsKv2VDuU/VXn45mMPl6I/AAAAAAAAER8/kj8PisTvkw8/s1600/kukla-desjatiruchka-8.jpg" TargetMode="External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2.bp.blogspot.com/-C22p1bFiYC8/VXn46MkYh8I/AAAAAAAAESM/x1gZcqGw45c/s1600/kukla-desjatiruchka-9.jpg" TargetMode="External"/><Relationship Id="rId3" Type="http://schemas.openxmlformats.org/officeDocument/2006/relationships/image" Target="../media/image33.jpeg"/><Relationship Id="rId4" Type="http://schemas.openxmlformats.org/officeDocument/2006/relationships/hyperlink" Target="http://4.bp.blogspot.com/-PZZlkQ_81jU/VXn4yP3l3RI/AAAAAAAAEQE/q0xwB-4NHk4/s1600/kukla-desjatiruchka-10.jpg" TargetMode="External"/><Relationship Id="rId5" Type="http://schemas.openxmlformats.org/officeDocument/2006/relationships/image" Target="../media/image34.jpeg"/><Relationship Id="rId6" Type="http://schemas.openxmlformats.org/officeDocument/2006/relationships/hyperlink" Target="http://1.bp.blogspot.com/-iiA1aDYpq78/VXn4xindHzI/AAAAAAAAEQI/pKykTJWSGzc/s1600/kukla-desjatiruchka-11.jpg" TargetMode="External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2.bp.blogspot.com/-wL0ZuPb97XQ/VXn4ymEvKzI/AAAAAAAAEP8/y4lY_sXrZtQ/s1600/kukla-desjatiruchka-12.jpg" TargetMode="External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4" descr=""/>
          <p:cNvPicPr/>
          <p:nvPr/>
        </p:nvPicPr>
        <p:blipFill>
          <a:blip r:embed="rId1"/>
          <a:srcRect l="0" t="8563" r="0" b="104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682560" y="2120760"/>
            <a:ext cx="7925040" cy="1317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6000840"/>
            <a:ext cx="8462880" cy="285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 педагог дополнительного образования Бельтюкова Е.М. 2017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Подзаголовок 2"/>
          <p:cNvSpPr/>
          <p:nvPr/>
        </p:nvSpPr>
        <p:spPr>
          <a:xfrm>
            <a:off x="684360" y="9079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образовательное учреждение дополнительного образования «Дом детского творчества Можгинского райо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5ACA-A57C-4EEF-88EA-2B7A9501B5F2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8" descr="http://cs3.livemaster.ru/zhurnalfoto/4/5/e/151110203730.jpeg"/>
          <p:cNvPicPr/>
          <p:nvPr/>
        </p:nvPicPr>
        <p:blipFill>
          <a:blip r:embed="rId3"/>
          <a:stretch/>
        </p:blipFill>
        <p:spPr>
          <a:xfrm>
            <a:off x="6286680" y="3214800"/>
            <a:ext cx="2143080" cy="25002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https://s-media-cache-ak0.pinimg.com/564x/18/74/a6/1874a6fad5add3aad7d40bb9f6fb4b1d.jpg"/>
          <p:cNvPicPr/>
          <p:nvPr/>
        </p:nvPicPr>
        <p:blipFill>
          <a:blip r:embed="rId4"/>
          <a:stretch/>
        </p:blipFill>
        <p:spPr>
          <a:xfrm>
            <a:off x="714240" y="3143160"/>
            <a:ext cx="2428920" cy="25718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0" descr="http://s-media-cache-ak0.pinimg.com/236x/de/0a/04/de0a0484911301cd834ff908420aa436.jpg"/>
          <p:cNvPicPr/>
          <p:nvPr/>
        </p:nvPicPr>
        <p:blipFill>
          <a:blip r:embed="rId5"/>
          <a:stretch/>
        </p:blipFill>
        <p:spPr>
          <a:xfrm>
            <a:off x="3708360" y="3027240"/>
            <a:ext cx="207000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3" descr=""/>
          <p:cNvPicPr/>
          <p:nvPr/>
        </p:nvPicPr>
        <p:blipFill>
          <a:blip r:embed="rId1"/>
          <a:srcRect l="0" t="8563" r="0" b="104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брядовая кукла «Масленица»</a:t>
            </a:r>
            <a:endParaRPr b="0" lang="en-US" sz="28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0" name="Номер слайда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7C3C-CF7E-4448-BCC2-CF4ADF623B78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5" descr=""/>
          <p:cNvPicPr/>
          <p:nvPr/>
        </p:nvPicPr>
        <p:blipFill>
          <a:blip r:embed="rId2"/>
          <a:stretch/>
        </p:blipFill>
        <p:spPr>
          <a:xfrm>
            <a:off x="500040" y="1643040"/>
            <a:ext cx="3700440" cy="4643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428720" y="1785600"/>
            <a:ext cx="4257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ли из соломы или лыка, что олицетворяло буйную силу растительности. Куклу украшали лентами, искусственными цветами. Завязывая ленты загадывали желания. Затем куклу сжигал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4" descr=""/>
          <p:cNvPicPr/>
          <p:nvPr/>
        </p:nvPicPr>
        <p:blipFill>
          <a:blip r:embed="rId1"/>
          <a:srcRect l="0" t="8563" r="0" b="10475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680" y="428400"/>
            <a:ext cx="8115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ядовая кукла «Десятиручка» 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ница в делах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о куклу делал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ю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гда все работы в поле закончены. Материал для изготовления использовали только натуральный - мочало, солому, лен. Девушки и женщины мастерят оберег веря, что с куколкой они смогут сделать свою работу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е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A77F-72C4-4711-8218-BA5EE7D21DCB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7" descr="https://1.bp.blogspot.com/-uEWk9dAGD8M/VXn43bXAcOI/AAAAAAAAERc/Xe5fW7F7vuY/s320/kukla-desjatiruchka-2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5880" y="371484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9" descr="Народная кукла Десятиручка. Мастер-класс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86200" y="3500280"/>
            <a:ext cx="35006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4" descr=""/>
          <p:cNvPicPr/>
          <p:nvPr/>
        </p:nvPicPr>
        <p:blipFill>
          <a:blip r:embed="rId1"/>
          <a:srcRect l="0" t="8563" r="0" b="10475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680" y="428760"/>
            <a:ext cx="811512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-класс народная кукл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сятиручка»- помощница в дел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редину белой ткани положить комочек синтепон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нуть и загнуть пополам, перевязать красной нитк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61DF-23E7-4145-A819-B2F9D55367C2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9" descr="https://1.bp.blogspot.com/-_bK5ae7kQzM/VXn43Bmx8YI/AAAAAAAAERY/INRkhNiF980/s400/kukla-desjatiruchka-25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2428920"/>
            <a:ext cx="2857680" cy="37861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0" descr="https://1.bp.blogspot.com/-5Z_rQcQjgps/VXn43zn51eI/AAAAAAAAERo/aXEzsNBUZ2s/s400/kukla-desjatiruchka-3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29120" y="2571840"/>
            <a:ext cx="35006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4" descr=""/>
          <p:cNvPicPr/>
          <p:nvPr/>
        </p:nvPicPr>
        <p:blipFill>
          <a:blip r:embed="rId1"/>
          <a:srcRect l="0" t="8563" r="0" b="10475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680" y="428760"/>
            <a:ext cx="811512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 у куколки целых десять, поэтому делаем пять скруток из красной ткани и вставляем их между половинками туловищ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A8BB-3EC0-4DDD-AEAC-043CA8190BDC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7" descr="https://2.bp.blogspot.com/-vJL3VQ0sanc/VXn44Hm_F9I/AAAAAAAAESU/PyIXSo6BjzM/s400/kukla-desjatiruchka-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3357720"/>
            <a:ext cx="3071880" cy="314316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1" descr="https://2.bp.blogspot.com/-4lvjUpNYg1M/VXn44qkZ9AI/AAAAAAAAESE/6ie8knNTncc/s400/kukla-desjatiruchka-5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00240" y="1857240"/>
            <a:ext cx="2643480" cy="33577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2" descr="https://1.bp.blogspot.com/-nMX9U5FgZ-g/VXn44_CfjhI/AAAAAAAAERw/0eD2IJvM5kQ/s400/kukla-desjatiruchka-6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57880" y="3143160"/>
            <a:ext cx="3429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4" descr=""/>
          <p:cNvPicPr/>
          <p:nvPr/>
        </p:nvPicPr>
        <p:blipFill>
          <a:blip r:embed="rId1"/>
          <a:srcRect l="0" t="8563" r="0" b="10475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680" y="428760"/>
            <a:ext cx="811512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ксируем методом обереговой перевязи в виде креста на груди, одновременно фиксируем талию ниткой красного цв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E08F-174E-4BDE-9CA7-A081C78786E1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9" descr="https://2.bp.blogspot.com/-Soua2xtbme8/VXn45emX81I/AAAAAAAAER4/6FYGlhRCHw4/s400/kukla-desjatiruchka-7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760" y="2143080"/>
            <a:ext cx="3571920" cy="392904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10" descr="https://1.bp.blogspot.com/-mpUsKv2VDuU/VXn45mMPl6I/AAAAAAAAER8/kj8PisTvkw8/s400/kukla-desjatiruchka-8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4920" y="214308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4" descr=""/>
          <p:cNvPicPr/>
          <p:nvPr/>
        </p:nvPicPr>
        <p:blipFill>
          <a:blip r:embed="rId1"/>
          <a:srcRect l="0" t="8563" r="0" b="10475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1680" y="428760"/>
            <a:ext cx="811512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бку и фартуки привязываем выворотным метод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BFC1-E73E-429F-BF43-839C8CACB834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7" descr="https://2.bp.blogspot.com/-C22p1bFiYC8/VXn46MkYh8I/AAAAAAAAESM/x1gZcqGw45c/s400/kukla-desjatiruchka-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4200" y="1428840"/>
            <a:ext cx="2571840" cy="22143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11" descr="https://4.bp.blogspot.com/-PZZlkQ_81jU/VXn4yP3l3RI/AAAAAAAAEQE/q0xwB-4NHk4/s400/kukla-desjatiruchka-1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0200" y="2357280"/>
            <a:ext cx="3143520" cy="25718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2" descr="https://1.bp.blogspot.com/-iiA1aDYpq78/VXn4xindHzI/AAAAAAAAEQI/pKykTJWSGzc/s400/kukla-desjatiruchka-11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00800" y="3857760"/>
            <a:ext cx="29289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4" descr=""/>
          <p:cNvPicPr/>
          <p:nvPr/>
        </p:nvPicPr>
        <p:blipFill>
          <a:blip r:embed="rId1"/>
          <a:srcRect l="0" t="8563" r="0" b="10475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428760"/>
            <a:ext cx="811512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а-символ удач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сы протянуть между половинками головы и заплести в косу. Вместо косынки повязать широкий повойни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0AF5-D327-4681-8FF5-759DB0E5427D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Рисунок 9" descr="https://2.bp.blogspot.com/-wL0ZuPb97XQ/VXn4ymEvKzI/AAAAAAAAEP8/y4lY_sXrZtQ/s400/kukla-desjatiruchka-1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040" y="2143080"/>
            <a:ext cx="2643120" cy="235764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10" descr="https://3.bp.blogspot.com/-ZpJfSPDaZZ8/VXn4y1FC7TI/AAAAAAAAEQA/vMEGaMlvk-w/s400/kukla-desjatiruchka-13.jpg"/>
          <p:cNvPicPr/>
          <p:nvPr/>
        </p:nvPicPr>
        <p:blipFill>
          <a:blip r:embed="rId4"/>
          <a:stretch/>
        </p:blipFill>
        <p:spPr>
          <a:xfrm>
            <a:off x="3214800" y="3071880"/>
            <a:ext cx="2643120" cy="22143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3" descr="https://1.bp.blogspot.com/-pX0UuWDgO6E/VXn40zjosEI/AAAAAAAAESg/SUqOGj-2NfA/s400/kukla-desjatiruchka-19.jpg"/>
          <p:cNvPicPr/>
          <p:nvPr/>
        </p:nvPicPr>
        <p:blipFill>
          <a:blip r:embed="rId5"/>
          <a:stretch/>
        </p:blipFill>
        <p:spPr>
          <a:xfrm>
            <a:off x="5572080" y="4214880"/>
            <a:ext cx="28576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4" descr=""/>
          <p:cNvPicPr/>
          <p:nvPr/>
        </p:nvPicPr>
        <p:blipFill>
          <a:blip r:embed="rId1"/>
          <a:srcRect l="0" t="8563" r="0" b="10475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71680" y="428760"/>
            <a:ext cx="811512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ая кукла «Десятиручка» – помощница в дела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а вам помочь в каждом деле, главное в это поверить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3524-2C53-4D8E-AF79-0E636E3E244C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Рисунок 11" descr="https://1.bp.blogspot.com/-QA3T6aPr0ZY/VXp-nziGkhI/AAAAAAAAETA/1PsVsvTf-A4/s400/kukla-desjatiruchka-27.JPG"/>
          <p:cNvPicPr/>
          <p:nvPr/>
        </p:nvPicPr>
        <p:blipFill>
          <a:blip r:embed="rId2"/>
          <a:stretch/>
        </p:blipFill>
        <p:spPr>
          <a:xfrm>
            <a:off x="1500120" y="2000160"/>
            <a:ext cx="5929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4" descr=""/>
          <p:cNvPicPr/>
          <p:nvPr/>
        </p:nvPicPr>
        <p:blipFill>
          <a:blip r:embed="rId1"/>
          <a:srcRect l="0" t="8563" r="0" b="10475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428760"/>
            <a:ext cx="811512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 в каждой русской избе находились традиционные народные куклы. Из поколения в поколение народ передавал свои традиции и опыт. Так на Руси появлялись замечательные рукодельницы-мастерицы, своим творчеством развивали и продолжали самобытное кукольное искусств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три вида народной куклы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егодня узнали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а – помощница в делах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чему народная кукла безлика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2154-9E67-4D72-AA36-96E8B6D41981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6" descr="http://ic.pics.livejournal.com/t_emptation/10298099/84942/84942_original.jpg"/>
          <p:cNvPicPr/>
          <p:nvPr/>
        </p:nvPicPr>
        <p:blipFill>
          <a:blip r:embed="rId2"/>
          <a:stretch/>
        </p:blipFill>
        <p:spPr>
          <a:xfrm>
            <a:off x="5214960" y="3000240"/>
            <a:ext cx="31431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4" descr=""/>
          <p:cNvPicPr/>
          <p:nvPr/>
        </p:nvPicPr>
        <p:blipFill>
          <a:blip r:embed="rId1"/>
          <a:srcRect l="0" t="8563" r="0" b="10475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71680" y="428400"/>
            <a:ext cx="8115120" cy="41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70C6-1A92-41D8-B388-5BBBA12824E1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7"/>
          <p:cNvSpPr/>
          <p:nvPr/>
        </p:nvSpPr>
        <p:spPr>
          <a:xfrm>
            <a:off x="755640" y="549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ых источ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9"/>
          <p:cNvSpPr/>
          <p:nvPr/>
        </p:nvSpPr>
        <p:spPr>
          <a:xfrm>
            <a:off x="971640" y="1197000"/>
            <a:ext cx="727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ерстенева Е.В., Догаева Н.В. «Кукольный сундуч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ая народная кукла своими руками».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  Белый город, 2010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оробьева О.Я. «Традиционные народные куклы».-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гоград.: Учитель, 200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айн Г.Л. Русская народная игрушка.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 Легкая промышленность, 1981. – 192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вычева Е.И. «Народная игрушка».- Ижевск, 200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Шайурова Н.В. « Традиционная тряпичная кукла» С-Пб «Детство-пресс» 2012.-205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4" descr=""/>
          <p:cNvPicPr/>
          <p:nvPr/>
        </p:nvPicPr>
        <p:blipFill>
          <a:blip r:embed="rId1"/>
          <a:srcRect l="0" t="8563" r="0" b="104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682560" y="2120760"/>
            <a:ext cx="7925040" cy="1317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928960" y="4357440"/>
            <a:ext cx="300024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6" name="Подзаголовок 2"/>
          <p:cNvSpPr/>
          <p:nvPr/>
        </p:nvSpPr>
        <p:spPr>
          <a:xfrm>
            <a:off x="684360" y="907920"/>
            <a:ext cx="7920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3B2C-6293-40A4-9FE0-1F10617DEA49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0"/>
          <p:cNvSpPr/>
          <p:nvPr/>
        </p:nvSpPr>
        <p:spPr>
          <a:xfrm>
            <a:off x="539640" y="692280"/>
            <a:ext cx="81360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езент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сторическая справка…………………………………………3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ды народной куклы:……………………………………….4-5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обереговая; - игровая, - обрядовая……………………….8-11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Мастер - класс: кукла «Десятиручка»..………………….13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ключение………………………………………………………18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писок использованных источников ………………………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8" descr="https://cs1.livemaster.ru/articlefoto/300x225/9/1/f/679805.jpeg"/>
          <p:cNvPicPr/>
          <p:nvPr/>
        </p:nvPicPr>
        <p:blipFill>
          <a:blip r:embed="rId3"/>
          <a:stretch/>
        </p:blipFill>
        <p:spPr>
          <a:xfrm>
            <a:off x="2643120" y="3714840"/>
            <a:ext cx="3429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4" descr=""/>
          <p:cNvPicPr/>
          <p:nvPr/>
        </p:nvPicPr>
        <p:blipFill>
          <a:blip r:embed="rId1"/>
          <a:srcRect l="0" t="8563" r="0" b="104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682560" y="2120760"/>
            <a:ext cx="7925040" cy="1317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26560" y="6063480"/>
            <a:ext cx="7959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3" name="Подзаголовок 2"/>
          <p:cNvSpPr/>
          <p:nvPr/>
        </p:nvSpPr>
        <p:spPr>
          <a:xfrm>
            <a:off x="684360" y="907920"/>
            <a:ext cx="792000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CE3D-6292-4271-8AC5-812663FC4E36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0"/>
          <p:cNvSpPr/>
          <p:nvPr/>
        </p:nvSpPr>
        <p:spPr>
          <a:xfrm>
            <a:off x="971640" y="69228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тории каждого отдельного народа кукла занимает важное место. Тряпичные куклы сопровождали человека с самого рождения, а некоторые изготавливались матерью еще до рождения ребенка. Игра в куклы поощрялась взрослыми, т.к. играя в них, ребенок учился вести хозяйство, обретал образ семьи. В кукольных играх дети непроизвольно учились шить, вышивать, прясть, вяз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11" descr="http://kuklamaster.ru/wp-content/uploads/2015/01/Narodnaya-kukla-Kubyishka-travnitsa-Master-klass.jpg"/>
          <p:cNvPicPr/>
          <p:nvPr/>
        </p:nvPicPr>
        <p:blipFill>
          <a:blip r:embed="rId3"/>
          <a:stretch/>
        </p:blipFill>
        <p:spPr>
          <a:xfrm>
            <a:off x="428760" y="4714920"/>
            <a:ext cx="2428920" cy="19288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2" descr="http://kuklamaster.ru/wp-content/uploads/2014/12/Narodnaya-oberegovaya-kukla-Podorozhnitsa-Master-klass.jpg"/>
          <p:cNvPicPr/>
          <p:nvPr/>
        </p:nvPicPr>
        <p:blipFill>
          <a:blip r:embed="rId4"/>
          <a:stretch/>
        </p:blipFill>
        <p:spPr>
          <a:xfrm>
            <a:off x="6357960" y="471492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3" descr="http://cs5.livemaster.ru/storage/d8/1d/9a18b0f001d5c41a0ceddfb306os--kukly-igrushki-igrovaya-tryapichnaya-kukla-po.jpg"/>
          <p:cNvPicPr/>
          <p:nvPr/>
        </p:nvPicPr>
        <p:blipFill>
          <a:blip r:embed="rId5"/>
          <a:stretch/>
        </p:blipFill>
        <p:spPr>
          <a:xfrm>
            <a:off x="3348000" y="3789360"/>
            <a:ext cx="259236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4" descr=""/>
          <p:cNvPicPr/>
          <p:nvPr/>
        </p:nvPicPr>
        <p:blipFill>
          <a:blip r:embed="rId1"/>
          <a:srcRect l="0" t="8563" r="0" b="104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иды народной куклы</a:t>
            </a:r>
            <a:endParaRPr b="0" lang="en-US" sz="28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1" name="Овал 5"/>
          <p:cNvSpPr/>
          <p:nvPr/>
        </p:nvSpPr>
        <p:spPr>
          <a:xfrm>
            <a:off x="3348000" y="1413000"/>
            <a:ext cx="2581200" cy="1301760"/>
          </a:xfrm>
          <a:prstGeom prst="ellipse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6"/>
          <p:cNvSpPr/>
          <p:nvPr/>
        </p:nvSpPr>
        <p:spPr>
          <a:xfrm>
            <a:off x="714240" y="1857240"/>
            <a:ext cx="2286000" cy="1500480"/>
          </a:xfrm>
          <a:prstGeom prst="ellipse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рег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7"/>
          <p:cNvSpPr/>
          <p:nvPr/>
        </p:nvSpPr>
        <p:spPr>
          <a:xfrm>
            <a:off x="3500280" y="3357720"/>
            <a:ext cx="2428920" cy="1214280"/>
          </a:xfrm>
          <a:prstGeom prst="ellipse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8"/>
          <p:cNvSpPr/>
          <p:nvPr/>
        </p:nvSpPr>
        <p:spPr>
          <a:xfrm>
            <a:off x="6156360" y="1989000"/>
            <a:ext cx="2357280" cy="1357560"/>
          </a:xfrm>
          <a:prstGeom prst="ellipse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яд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9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673C-92FF-4353-8353-7F207F2FEC19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3500280" y="47862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кукла предназначалась для   детских и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6072120" y="3429000"/>
            <a:ext cx="2786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обрядовой куклы приурочивалось к важнейшим событиям народного календаря, например к началу посевных работ или уборке урож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571680" y="3429000"/>
            <a:ext cx="2714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реговую куклу делали к главным семейным событиям, таким как  свадьба или рождение ребенка. Они должны были защищать и оберегать сем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Прямая со стрелкой 14"/>
          <p:cNvCxnSpPr/>
          <p:nvPr/>
        </p:nvCxnSpPr>
        <p:spPr>
          <a:xfrm flipH="1">
            <a:off x="2999520" y="2284920"/>
            <a:ext cx="429480" cy="214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30" name="Прямая со стрелкой 20"/>
          <p:cNvCxnSpPr/>
          <p:nvPr/>
        </p:nvCxnSpPr>
        <p:spPr>
          <a:xfrm flipH="1">
            <a:off x="4642560" y="2785680"/>
            <a:ext cx="2520" cy="5007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31" name="Прямая со стрелкой 22"/>
          <p:cNvCxnSpPr/>
          <p:nvPr/>
        </p:nvCxnSpPr>
        <p:spPr>
          <a:xfrm>
            <a:off x="5857920" y="2285640"/>
            <a:ext cx="357840" cy="143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4" descr=""/>
          <p:cNvPicPr/>
          <p:nvPr/>
        </p:nvPicPr>
        <p:blipFill>
          <a:blip r:embed="rId1"/>
          <a:srcRect l="0" t="8563" r="0" b="104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иды народной куклы</a:t>
            </a:r>
            <a:endParaRPr b="0" lang="en-US" sz="28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4" name="Овал 5"/>
          <p:cNvSpPr/>
          <p:nvPr/>
        </p:nvSpPr>
        <p:spPr>
          <a:xfrm>
            <a:off x="3348000" y="1413000"/>
            <a:ext cx="2581200" cy="1301760"/>
          </a:xfrm>
          <a:prstGeom prst="ellipse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6"/>
          <p:cNvSpPr/>
          <p:nvPr/>
        </p:nvSpPr>
        <p:spPr>
          <a:xfrm>
            <a:off x="714240" y="1857240"/>
            <a:ext cx="2286000" cy="1500480"/>
          </a:xfrm>
          <a:prstGeom prst="ellipse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рег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7"/>
          <p:cNvSpPr/>
          <p:nvPr/>
        </p:nvSpPr>
        <p:spPr>
          <a:xfrm>
            <a:off x="3500280" y="3357720"/>
            <a:ext cx="2428920" cy="1214280"/>
          </a:xfrm>
          <a:prstGeom prst="ellipse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8"/>
          <p:cNvSpPr/>
          <p:nvPr/>
        </p:nvSpPr>
        <p:spPr>
          <a:xfrm>
            <a:off x="6143760" y="2000160"/>
            <a:ext cx="2357280" cy="1357560"/>
          </a:xfrm>
          <a:prstGeom prst="ellipse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яд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9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4CE1-9E33-46A6-842D-7D4CEF6B6E8B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14"/>
          <p:cNvCxnSpPr/>
          <p:nvPr/>
        </p:nvCxnSpPr>
        <p:spPr>
          <a:xfrm flipH="1">
            <a:off x="2999520" y="2284920"/>
            <a:ext cx="429480" cy="214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40" name="Прямая со стрелкой 20"/>
          <p:cNvCxnSpPr/>
          <p:nvPr/>
        </p:nvCxnSpPr>
        <p:spPr>
          <a:xfrm flipH="1">
            <a:off x="4642560" y="2785680"/>
            <a:ext cx="2520" cy="5007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41" name="Прямая со стрелкой 22"/>
          <p:cNvCxnSpPr/>
          <p:nvPr/>
        </p:nvCxnSpPr>
        <p:spPr>
          <a:xfrm>
            <a:off x="5857920" y="2285640"/>
            <a:ext cx="357840" cy="143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142" name="Рисунок 15" descr="http://ped-kopilka.ru/images/1(17).jpg"/>
          <p:cNvPicPr/>
          <p:nvPr/>
        </p:nvPicPr>
        <p:blipFill>
          <a:blip r:embed="rId2"/>
          <a:stretch/>
        </p:blipFill>
        <p:spPr>
          <a:xfrm>
            <a:off x="500040" y="3643200"/>
            <a:ext cx="2500200" cy="22147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6" descr="http://img0.liveinternet.ru/images/attach/c/2/74/334/74334566_large_DSC08295.JPG"/>
          <p:cNvPicPr/>
          <p:nvPr/>
        </p:nvPicPr>
        <p:blipFill>
          <a:blip r:embed="rId3"/>
          <a:stretch/>
        </p:blipFill>
        <p:spPr>
          <a:xfrm>
            <a:off x="3643200" y="4640400"/>
            <a:ext cx="2000520" cy="20034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7" descr="http://xobi.com.ua/uploads/posts/2012-01/1325734474_ma4.jpg"/>
          <p:cNvPicPr/>
          <p:nvPr/>
        </p:nvPicPr>
        <p:blipFill>
          <a:blip r:embed="rId4"/>
          <a:stretch/>
        </p:blipFill>
        <p:spPr>
          <a:xfrm>
            <a:off x="6000840" y="3714840"/>
            <a:ext cx="2928960" cy="207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4" descr=""/>
          <p:cNvPicPr/>
          <p:nvPr/>
        </p:nvPicPr>
        <p:blipFill>
          <a:blip r:embed="rId1"/>
          <a:srcRect l="0" t="8563" r="0" b="104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береговая кукла «Берегиня»</a:t>
            </a:r>
            <a:endParaRPr b="0" lang="en-US" sz="28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ая славянская кукла-оберег. Главная задача куклы заключалась в защите от напастей, она должна бала оберегать всех домочадцев от болезней и злых духов. Приступать к изготовлению оберега можно только с хорошим настроением и положительным настро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CF30-8C6E-41E1-8880-7FF50D8DB141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6" descr="http://ic.pics.livejournal.com/irinastep/26630017/92690/original.jpg"/>
          <p:cNvPicPr/>
          <p:nvPr/>
        </p:nvPicPr>
        <p:blipFill>
          <a:blip r:embed="rId2"/>
          <a:stretch/>
        </p:blipFill>
        <p:spPr>
          <a:xfrm>
            <a:off x="857160" y="3286080"/>
            <a:ext cx="3071880" cy="335772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7" descr="https://s-media-cache-ak0.pinimg.com/236x/ed/89/ed/ed89ed808041f62e899d4b8b66e49acb.jpg"/>
          <p:cNvPicPr/>
          <p:nvPr/>
        </p:nvPicPr>
        <p:blipFill>
          <a:blip r:embed="rId3"/>
          <a:stretch/>
        </p:blipFill>
        <p:spPr>
          <a:xfrm>
            <a:off x="4643280" y="3286080"/>
            <a:ext cx="36435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4" descr=""/>
          <p:cNvPicPr/>
          <p:nvPr/>
        </p:nvPicPr>
        <p:blipFill>
          <a:blip r:embed="rId1"/>
          <a:srcRect l="0" t="8563" r="0" b="104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береговая кукла «Колокольчик»</a:t>
            </a:r>
            <a:endParaRPr b="0" lang="en-US" sz="28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0040" y="1499760"/>
            <a:ext cx="819792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колка добрых вестей. С ней можно поиграть, она поможет тому, кто собирается в дорогу. Куколка похожа на колокольчик, а колокольчик на силуэт женщины. Колокольный звон - один из самых сильных оберегов, и если мы поверим своему тряпичному колокольчику, он станет обладать и обережными свойст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Рисунок 5" descr="http://hobby-terra.ru/wp-content/uploads/2013/01/narodnaya-kukla.jpg"/>
          <p:cNvPicPr/>
          <p:nvPr/>
        </p:nvPicPr>
        <p:blipFill>
          <a:blip r:embed="rId2"/>
          <a:stretch/>
        </p:blipFill>
        <p:spPr>
          <a:xfrm>
            <a:off x="2857680" y="3857760"/>
            <a:ext cx="3500280" cy="2571480"/>
          </a:xfrm>
          <a:prstGeom prst="rect">
            <a:avLst/>
          </a:prstGeom>
          <a:ln w="0">
            <a:noFill/>
          </a:ln>
        </p:spPr>
      </p:pic>
      <p:sp>
        <p:nvSpPr>
          <p:cNvPr id="155" name="Номер слайда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EA1F-72FA-4F2E-9630-8FBBCBE8C6E1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4" descr=""/>
          <p:cNvPicPr/>
          <p:nvPr/>
        </p:nvPicPr>
        <p:blipFill>
          <a:blip r:embed="rId1"/>
          <a:srcRect l="0" t="8563" r="0" b="104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укла-оберег «Столбушка»</a:t>
            </a:r>
            <a:endParaRPr b="0" lang="en-US" sz="28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42960" y="1285560"/>
            <a:ext cx="78580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закрутка, самая древняя из кукол. Таких кукол в доме могло быть до сотни! Кукол по дому не разбрасывали - их аккуратно хранили в сундук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Заголовок 1"/>
          <p:cNvSpPr/>
          <p:nvPr/>
        </p:nvSpPr>
        <p:spPr>
          <a:xfrm>
            <a:off x="4572000" y="5229360"/>
            <a:ext cx="41259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6" descr="C:\Documents and Settings\Admin\Мои документы\22.02.2016\DSC01908.JPG"/>
          <p:cNvPicPr/>
          <p:nvPr/>
        </p:nvPicPr>
        <p:blipFill>
          <a:blip r:embed="rId2"/>
          <a:stretch/>
        </p:blipFill>
        <p:spPr>
          <a:xfrm>
            <a:off x="345960" y="3143160"/>
            <a:ext cx="4308480" cy="34290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http://dolls-textile.ru/images/stories/paskhalnaya/paskhalnaya-kukla-3.jpg"/>
          <p:cNvPicPr/>
          <p:nvPr/>
        </p:nvPicPr>
        <p:blipFill>
          <a:blip r:embed="rId3"/>
          <a:stretch/>
        </p:blipFill>
        <p:spPr>
          <a:xfrm>
            <a:off x="5429160" y="3143160"/>
            <a:ext cx="3214800" cy="3429000"/>
          </a:xfrm>
          <a:prstGeom prst="rect">
            <a:avLst/>
          </a:prstGeom>
          <a:ln w="0">
            <a:noFill/>
          </a:ln>
        </p:spPr>
      </p:pic>
      <p:sp>
        <p:nvSpPr>
          <p:cNvPr id="162" name="Номер слайда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DD63-D742-42D1-961A-A8FED067DA49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4" descr=""/>
          <p:cNvPicPr/>
          <p:nvPr/>
        </p:nvPicPr>
        <p:blipFill>
          <a:blip r:embed="rId1"/>
          <a:srcRect l="0" t="8563" r="0" b="10475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71680" y="642600"/>
            <a:ext cx="81151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кукл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ла в воспитании детей в  семье. Дети сами изготавливали кукол из лоскутков или получали их в наследство от матерей или старших сестер. Куклы получали имена, отчества и фамилии. На игровой кукле иногда оформляли лиц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0048-A436-45CA-A7FB-EA5DE87B8F65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6" descr="http://planetadetstva.net/wp-content/uploads/2013/04/%D0%BC%D0%B8%D0%BD%D0%B8%D0%B0%D1%82%D1%8E%D1%80%D0%B065.jpg"/>
          <p:cNvPicPr/>
          <p:nvPr/>
        </p:nvPicPr>
        <p:blipFill>
          <a:blip r:embed="rId2"/>
          <a:stretch/>
        </p:blipFill>
        <p:spPr>
          <a:xfrm>
            <a:off x="2143080" y="3000240"/>
            <a:ext cx="5143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8:19:49Z</dcterms:created>
  <dc:creator>Admin</dc:creator>
  <dc:description/>
  <dc:language>en-US</dc:language>
  <cp:lastModifiedBy>Admin</cp:lastModifiedBy>
  <dcterms:modified xsi:type="dcterms:W3CDTF">2018-01-04T16:54:07Z</dcterms:modified>
  <cp:revision>61</cp:revision>
  <dc:subject/>
  <dc:title>Слайд 1</dc:title>
</cp:coreProperties>
</file>